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AF5-D57F-45B5-9396-482268C0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E02-56AD-4A44-A5A4-B54EA5C8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8FF6-C7CC-4330-89BE-A82C6B38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2BF7-6644-47E2-9A43-AAA1B468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1207-58C4-4865-AEF9-6DE85D38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5D77-9D92-4B10-B460-E9CB1445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638B-7C4B-4D70-8F90-165960CB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D7C3-DEB0-469A-B82B-7A4849A2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2312-E763-4892-9E58-18D4648F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F9E1-074C-4C81-9EAD-D61A0E19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B808-BDD9-45F6-93C5-B4EB47F1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6DE2-705D-4CFA-B1F6-14A7E565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889B-2F11-4D98-8EFC-94CD0B47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AB6A-3F78-4A72-BE7A-1A255418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2FFE-11A4-4F78-8F9F-FEADE636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E5FC-2DC6-4CD7-B4BE-3692D62B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A9BC-97D6-4781-A4E9-173CE623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E7522-A418-4A77-B566-D2989EA9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880C9-5A20-4E5E-920F-D0D79241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193DC-AC1C-40DB-8692-028804B9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5387E-7F8B-4A1B-87C1-6488E6C2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9AA43-D9E6-4C59-9A5E-F9DC3169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BC4F-50C4-4E37-A9A4-8EF75349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2736D-0419-4273-85EC-15E1923D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ED1DF-8052-4F58-94C2-572F806C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D36D2-0503-4A32-A9F0-A5E56D9E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00773-87F8-4E93-8354-672A6349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63E9D-4C78-41C2-A6D5-EF9DE14D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A9769-7D19-46EF-AC74-D6421A7C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93E5B-E0D6-46DC-9A54-E71344A3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C2A77-5961-4861-9747-8425A199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94AF7-3118-48E9-82D9-44FA915D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CA930-9649-4518-9E65-D52F0181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70D8-5B8D-4C0C-91B6-40093CA9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6E240-2B9A-4CE1-AD4D-0F989D09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5D061-73B2-452B-8A69-7D639743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39413-EF80-40C1-8162-BA666E5C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AAFF8-11D0-477F-8643-3D760156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6CD7D-4E7E-424C-956B-6D265B43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B07AF-CD4F-461A-A365-024A8077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AAB50-DFA9-44C2-A432-882D2CA5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7D4F7-5F7D-4394-AB96-4CAEE6E6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B30D9-F9D0-44CE-B2E7-10714328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4EB71-CAD5-4C40-AD88-0701F4B7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20AE-B481-4CB3-9494-8D2A7AA1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91A39-54E8-4B6D-B695-43E31D2C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9942D-446C-44F6-9DBF-0B36D821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C8D70-EC8E-4717-93E7-7729D226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A77E1-B25F-4773-BBE5-51892711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4F332-9481-4AB8-9741-E7D412D1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CA787-16E2-4A0F-B372-A147106F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4430A-439C-4BF5-9EE8-24C75377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DEF1C-6CD6-439F-A4D6-9295C234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2806F-95BC-4E4C-ADE6-2B109A21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B7688-3A48-4F6D-BD77-1E390178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FD11-992C-4FD7-8179-9764859C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D7817-7110-4629-83EF-C2468D8D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6F3E-0FE4-4D04-8FA8-D6A12AFE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9F18-7F2C-456B-A7FD-97DF64E3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224A-A5B4-450E-A191-13F73890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3FCC-330D-45B1-8E88-4B18A8660F7D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42A6-5F09-42DC-9A09-3B45C77EE65E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BC81-1EBC-43ED-918A-6671AB4219F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191E-1ED7-42AD-94ED-35991380E6B7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54E8-D040-4D16-9A52-E978F01E259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49900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Bickham Script Pro Semibold"/>
              </a:rPr>
              <a:t>Creado por: Courtney Herring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Bickham Script Pro Semibold"/>
              </a:rPr>
              <a:t>Ms. Kianes   1 st  period   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5" descr="images.jpg"/>
          <p:cNvPicPr/>
          <p:nvPr/>
        </p:nvPicPr>
        <p:blipFill>
          <a:blip r:embed="rId2"/>
          <a:stretch/>
        </p:blipFill>
        <p:spPr>
          <a:xfrm>
            <a:off x="762120" y="1447920"/>
            <a:ext cx="2590560" cy="3352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l programa se llama The suit life of Zack and Cod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y tres personas en la famili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llos son de Boston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iven en Hotel.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l padre se llama Arwi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l tiene treinta y seis año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l es alto, inteligente, y flaco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a madre se llama Carr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lla tiene treinta y ocho año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lla es alto, morena,y flaca.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4" descr="Arwin.jpg"/>
          <p:cNvPicPr/>
          <p:nvPr/>
        </p:nvPicPr>
        <p:blipFill>
          <a:blip r:embed="rId1"/>
          <a:stretch/>
        </p:blipFill>
        <p:spPr>
          <a:xfrm>
            <a:off x="5638680" y="1600200"/>
            <a:ext cx="952560" cy="1428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l hijo se llama Zack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l tiene catorce año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Zack es bajo, rubio, y malo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l hijo se llama Cod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l tiene catorce año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dy es bajo, rubio, y bueno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a casa es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a casa tiene  cuarto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 sala 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 cocina es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14:30:29Z</dcterms:created>
  <dc:creator>Administrator</dc:creator>
  <dc:description/>
  <dc:language>en-US</dc:language>
  <cp:lastModifiedBy>Administrator</cp:lastModifiedBy>
  <dcterms:modified xsi:type="dcterms:W3CDTF">2008-12-18T15:15:11Z</dcterms:modified>
  <cp:revision>12</cp:revision>
  <dc:subject/>
  <dc:title>The Sweet Life Of Zach and Cody</dc:title>
</cp:coreProperties>
</file>